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jpeg" ContentType="image/jpeg"/>
  <Override PartName="/ppt/media/image2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41.jpeg" ContentType="image/jpeg"/>
  <Override PartName="/ppt/media/image14.jpeg" ContentType="image/jpeg"/>
  <Override PartName="/ppt/media/image17.png" ContentType="image/png"/>
  <Override PartName="/ppt/media/image32.jpeg" ContentType="image/jpeg"/>
  <Override PartName="/ppt/media/image22.png" ContentType="image/png"/>
  <Override PartName="/ppt/media/image2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9.jpeg" ContentType="image/jpeg"/>
  <Override PartName="/ppt/media/image67.wmf" ContentType="image/x-wmf"/>
  <Override PartName="/ppt/media/image33.jpeg" ContentType="image/jpeg"/>
  <Override PartName="/ppt/media/image68.wmf" ContentType="image/x-wmf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6.wmf" ContentType="image/x-wmf"/>
  <Override PartName="/ppt/media/image63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52.png" ContentType="image/png"/>
  <Override PartName="/ppt/media/image25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6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64.jpeg" ContentType="image/jpe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6C3-50A6-40FA-A26E-2953CEF6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899-F450-48A4-9289-9F7C6A8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875-2FFA-4D3A-96F5-25181126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77B-04A8-4DEB-8896-E8EE4979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F2F-0070-4743-A293-0D8B78B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FE4-BC2F-4AF6-A24A-18CC9E18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26F-7000-4654-B00A-6E1720B7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1DE-C167-4B2A-959C-5E4DCA8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438-1C4F-4AE9-AEDD-206F1BA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2BC-B6A0-4913-8A44-BFC0D35C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F22-EC60-4941-BCEB-C59B3A5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D24-FCFA-4C7F-B515-E576B10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F2A8-448D-4327-B305-8600F970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ltzapoved" TargetMode="External"/><Relationship Id="rId2" Type="http://schemas.openxmlformats.org/officeDocument/2006/relationships/hyperlink" Target="http://www.flickr.com/photos/altzapoved" TargetMode="External"/><Relationship Id="rId3" Type="http://schemas.openxmlformats.org/officeDocument/2006/relationships/hyperlink" Target="http://www.flickr.com/photos/altzapoved" TargetMode="External"/><Relationship Id="rId4" Type="http://schemas.openxmlformats.org/officeDocument/2006/relationships/hyperlink" Target="http://www.flickr.com/photos/altzapoved" TargetMode="External"/><Relationship Id="rId5" Type="http://schemas.openxmlformats.org/officeDocument/2006/relationships/hyperlink" Target="http://www.flickr.com/photos/altzapoved" TargetMode="External"/><Relationship Id="rId6" Type="http://schemas.openxmlformats.org/officeDocument/2006/relationships/hyperlink" Target="http://www.flickr.com/photos/altzapoved" TargetMode="External"/><Relationship Id="rId7" Type="http://schemas.openxmlformats.org/officeDocument/2006/relationships/hyperlink" Target="http://www.flickr.com/photos/altzapoved" TargetMode="External"/><Relationship Id="rId8" Type="http://schemas.openxmlformats.org/officeDocument/2006/relationships/hyperlink" Target="http://altzapoved.livejournal.com/" TargetMode="External"/><Relationship Id="rId9" Type="http://schemas.openxmlformats.org/officeDocument/2006/relationships/hyperlink" Target="http://altzapoved.livejournal.com/" TargetMode="External"/><Relationship Id="rId10" Type="http://schemas.openxmlformats.org/officeDocument/2006/relationships/hyperlink" Target="http://altzapoved.livejournal.com/" TargetMode="External"/><Relationship Id="rId11" Type="http://schemas.openxmlformats.org/officeDocument/2006/relationships/hyperlink" Target="http://altzapoved.livejournal.com/" TargetMode="External"/><Relationship Id="rId12" Type="http://schemas.openxmlformats.org/officeDocument/2006/relationships/hyperlink" Target="http://community.livejournal.com/yailu" TargetMode="External"/><Relationship Id="rId13" Type="http://schemas.openxmlformats.org/officeDocument/2006/relationships/hyperlink" Target="http://community.livejournal.com/yailu" TargetMode="External"/><Relationship Id="rId14" Type="http://schemas.openxmlformats.org/officeDocument/2006/relationships/hyperlink" Target="http://community.livejournal.com/yailu" TargetMode="External"/><Relationship Id="rId15" Type="http://schemas.openxmlformats.org/officeDocument/2006/relationships/hyperlink" Target="http://community.livejournal.com/yailu" TargetMode="External"/><Relationship Id="rId16" Type="http://schemas.openxmlformats.org/officeDocument/2006/relationships/hyperlink" Target="http://community.livejournal.com/yailu" TargetMode="External"/><Relationship Id="rId17" Type="http://schemas.openxmlformats.org/officeDocument/2006/relationships/hyperlink" Target="http://my.mail.ru/community/altzapoved/" TargetMode="External"/><Relationship Id="rId18" Type="http://schemas.openxmlformats.org/officeDocument/2006/relationships/hyperlink" Target="http://my.mail.ru/community/altzapoved/" TargetMode="External"/><Relationship Id="rId19" Type="http://schemas.openxmlformats.org/officeDocument/2006/relationships/hyperlink" Target="http://my.mail.ru/community/altzapoved/" TargetMode="External"/><Relationship Id="rId20" Type="http://schemas.openxmlformats.org/officeDocument/2006/relationships/hyperlink" Target="http://my.mail.ru/community/altzapoved/" TargetMode="External"/><Relationship Id="rId21" Type="http://schemas.openxmlformats.org/officeDocument/2006/relationships/hyperlink" Target="http://my.mail.ru/community/altzapoved/" TargetMode="External"/><Relationship Id="rId22" Type="http://schemas.openxmlformats.org/officeDocument/2006/relationships/hyperlink" Target="http://my.mail.ru/community/altzapoved/" TargetMode="External"/><Relationship Id="rId23" Type="http://schemas.openxmlformats.org/officeDocument/2006/relationships/hyperlink" Target="http://my.mail.ru/community/altzapoved/" TargetMode="External"/><Relationship Id="rId24" Type="http://schemas.openxmlformats.org/officeDocument/2006/relationships/hyperlink" Target="http://my.mail.ru/community/altzapoved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2.pn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56.jpeg"/><Relationship Id="rId11" Type="http://schemas.openxmlformats.org/officeDocument/2006/relationships/image" Target="../media/image58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55.jpeg"/><Relationship Id="rId17" Type="http://schemas.openxmlformats.org/officeDocument/2006/relationships/image" Target="../media/image52.png"/><Relationship Id="rId18" Type="http://schemas.openxmlformats.org/officeDocument/2006/relationships/image" Target="../media/image56.jpeg"/><Relationship Id="rId19" Type="http://schemas.openxmlformats.org/officeDocument/2006/relationships/image" Target="../media/image52.png"/><Relationship Id="rId20" Type="http://schemas.openxmlformats.org/officeDocument/2006/relationships/image" Target="../media/image55.jpeg"/><Relationship Id="rId21" Type="http://schemas.openxmlformats.org/officeDocument/2006/relationships/image" Target="../media/image58.jpeg"/><Relationship Id="rId22" Type="http://schemas.openxmlformats.org/officeDocument/2006/relationships/image" Target="../media/image56.jpeg"/><Relationship Id="rId23" Type="http://schemas.openxmlformats.org/officeDocument/2006/relationships/image" Target="../media/image52.png"/><Relationship Id="rId24" Type="http://schemas.openxmlformats.org/officeDocument/2006/relationships/image" Target="../media/image55.jpeg"/><Relationship Id="rId25" Type="http://schemas.openxmlformats.org/officeDocument/2006/relationships/image" Target="../media/image58.jpeg"/><Relationship Id="rId26" Type="http://schemas.openxmlformats.org/officeDocument/2006/relationships/image" Target="../media/image56.jpeg"/><Relationship Id="rId27" Type="http://schemas.openxmlformats.org/officeDocument/2006/relationships/image" Target="../media/image55.jpeg"/><Relationship Id="rId28" Type="http://schemas.openxmlformats.org/officeDocument/2006/relationships/image" Target="../media/image52.png"/><Relationship Id="rId29" Type="http://schemas.openxmlformats.org/officeDocument/2006/relationships/image" Target="../media/image64.jpeg"/><Relationship Id="rId30" Type="http://schemas.openxmlformats.org/officeDocument/2006/relationships/image" Target="../media/image58.jpeg"/><Relationship Id="rId31" Type="http://schemas.openxmlformats.org/officeDocument/2006/relationships/image" Target="../media/image64.jpeg"/><Relationship Id="rId32" Type="http://schemas.openxmlformats.org/officeDocument/2006/relationships/image" Target="../media/image64.jpeg"/><Relationship Id="rId33" Type="http://schemas.openxmlformats.org/officeDocument/2006/relationships/image" Target="../media/image65.jpeg"/><Relationship Id="rId34" Type="http://schemas.openxmlformats.org/officeDocument/2006/relationships/image" Target="../media/image65.jpeg"/><Relationship Id="rId3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hyperlink" Target="mailto:agpzmain@mail.ru" TargetMode="External"/><Relationship Id="rId3" Type="http://schemas.openxmlformats.org/officeDocument/2006/relationships/hyperlink" Target="mailto:agpzmain@mail.ru" TargetMode="External"/><Relationship Id="rId4" Type="http://schemas.openxmlformats.org/officeDocument/2006/relationships/hyperlink" Target="mailto:agpzmain@mail.ru" TargetMode="External"/><Relationship Id="rId5" Type="http://schemas.openxmlformats.org/officeDocument/2006/relationships/hyperlink" Target="http://www.altzapovednik.ru/" TargetMode="External"/><Relationship Id="rId6" Type="http://schemas.openxmlformats.org/officeDocument/2006/relationships/hyperlink" Target="http://www.altzapovednik.ru/" TargetMode="External"/><Relationship Id="rId7" Type="http://schemas.openxmlformats.org/officeDocument/2006/relationships/hyperlink" Target="http://www.altzapovednik.ru/" TargetMode="External"/><Relationship Id="rId8" Type="http://schemas.openxmlformats.org/officeDocument/2006/relationships/hyperlink" Target="http://www.altzapovednik.ru/" TargetMode="External"/><Relationship Id="rId9" Type="http://schemas.openxmlformats.org/officeDocument/2006/relationships/hyperlink" Target="http://www.sledmedved.ning.com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6767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рактический опыт эколого-просветительской работы 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в Алтайском заповед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465300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м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о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ячеслав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-2060" t="0" r="2070" b="2118"/>
          <a:stretch/>
        </p:blipFill>
        <p:spPr>
          <a:xfrm>
            <a:off x="0" y="0"/>
            <a:ext cx="1908000" cy="186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692280"/>
            <a:ext cx="52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ий биосферный 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8900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природных ресурсов и эк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6308640"/>
            <a:ext cx="259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сноярск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м правом в обслуживании посетителей маршрута обладают жители пос. Яйлю. В настоящее время на Корбу предоставлено местным жителям около 20-ти рабочи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но официальным данным (2011г), уровень безработицы в пос. Яйлю составляет 0 % при уровне безработицы в Турочакском районе – 3,16 %, в Республике Алтай – 3,35 % и в России – 7,5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23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ость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24360" y="1268280"/>
            <a:ext cx="4753080" cy="31626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024360" cy="4032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В.Кан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елёные» гостевые дома в заповедных посё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4581360"/>
            <a:ext cx="4321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. Яйлю, Беле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доны: размещение и питание посетителей у местных ж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. Яйлю – 50-60 гостевы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5809" t="0" r="0" b="0"/>
          <a:stretch/>
        </p:blipFill>
        <p:spPr>
          <a:xfrm>
            <a:off x="395280" y="765000"/>
            <a:ext cx="4464000" cy="3276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076720" y="692280"/>
            <a:ext cx="3311640" cy="24494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19640" y="3284640"/>
            <a:ext cx="3046320" cy="3384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843280" y="645336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ие со СМ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с-цент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ого запов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32000" y="1484280"/>
          <a:ext cx="6408720" cy="39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64087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95280" y="5516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2009 году в Алтайском заповеднике официально создан Пресс-центр по взаимодействию со СМИ. В настоящее время база рассылки Пресс-центра содержит 83 электронных адреса СМИ раз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с-рели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48360" y="2349000"/>
            <a:ext cx="790560" cy="57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3789360"/>
            <a:ext cx="935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56000" y="2133720"/>
            <a:ext cx="0" cy="79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340000" y="2852280"/>
            <a:ext cx="936720" cy="64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84360" y="4076640"/>
            <a:ext cx="719280" cy="2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700280"/>
            <a:ext cx="2594160" cy="108108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чатные и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17002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-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3284640"/>
            <a:ext cx="2160720" cy="100800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ви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рад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1052640"/>
            <a:ext cx="2519280" cy="93816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2162160" cy="107964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аз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501336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ый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хронология собы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чё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40000" y="4724280"/>
            <a:ext cx="144360" cy="64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5445000"/>
            <a:ext cx="302436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етители, участ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вещаний, семин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437000"/>
            <a:ext cx="86364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376360" cy="18842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нк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907920"/>
            <a:ext cx="4103640" cy="5472360"/>
          </a:xfrm>
          <a:prstGeom prst="rect">
            <a:avLst/>
          </a:prstGeom>
          <a:solidFill>
            <a:srgbClr val="c0c0c0">
              <a:alpha val="1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едеральное государственно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«Алтайский государственный природны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иосферный заповедник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tzapovednik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484280"/>
            <a:ext cx="165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За дополнительной информацие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обращаться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388-22) 2-14-19, 8-906-970-24-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coprosvet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ветлана Щигрев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220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Дата выпуска: 03 октября  2011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Место выпуска: г. Горно-Алтайск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Республика Алта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637000"/>
            <a:ext cx="1800360" cy="433080"/>
          </a:xfrm>
          <a:prstGeom prst="rect">
            <a:avLst/>
          </a:prstGeom>
          <a:solidFill>
            <a:srgbClr val="bbe0e3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СС-РЕ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4653000"/>
          <a:ext cx="4103640" cy="1655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государственный природный заповедник образован в 1932 году и является природоохранным, научно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м и эколого-просветительским учреждением федерального значения. Основная цель создания –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изучение естественного хода природных процессов и явлений, генетического фонда раститель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животного мира, отдельных видов и сообществ растений и животных, типичных и уникальных экологически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. Это особо охраняемая природная территория с площадью 881238 га, включающая часть акватор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цкого озера. По количеству видов сосудистых растений Алтайский заповедник занимает 2 место в Росс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всех заповедников и находится в 5-ке заповедников по видовому разнообразию (количеству видов живы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мов). Алтайский заповедник и Телецкое озеро являются объектами Всемирного природного Наслед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ЕСКО в номинации «Алтай - Золотые горы» (с 1998 года). 26 мая 2009 года Алтайскому заповеднику присвоен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сферный стату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ые данные:  649000 Республика Алтай, г. Горно-Алтайск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Коммунистический – 1,  а/я 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/факс: (388-22) 2-14-19  E-mail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pzmain@rambler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ы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nik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.r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Движения Друзей Алтайского заповедника "След Медведя": www.sledmedved.ning.co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Алтайского заповедника: Калмыков Игорь Вячеславович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219640" y="2421000"/>
            <a:ext cx="3600360" cy="244800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актные данные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ту вы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ткую историю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ус и номи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1268280"/>
            <a:ext cx="2665440" cy="86544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к пресс-рели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е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держ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581360"/>
            <a:ext cx="3240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жно указывать источ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пользованной информ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вторство ф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хема-пример распространения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349360"/>
            <a:ext cx="2232000" cy="1944720"/>
          </a:xfrm>
          <a:prstGeom prst="ellipse">
            <a:avLst/>
          </a:prstGeom>
          <a:solidFill>
            <a:srgbClr val="c0c0c0">
              <a:alpha val="25000"/>
            </a:srgbClr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 электр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база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557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836640"/>
            <a:ext cx="4248360" cy="719280"/>
          </a:xfrm>
          <a:prstGeom prst="rect">
            <a:avLst/>
          </a:pr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пресс-релиз = 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роведении Школы госинсп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700280"/>
            <a:ext cx="2376720" cy="2374920"/>
          </a:xfrm>
          <a:prstGeom prst="ellipse">
            <a:avLst/>
          </a:prstGeom>
          <a:solidFill>
            <a:srgbClr val="c0c0c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гент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ИТ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КФА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ПР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ТАР-Т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А-НО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мн.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950080"/>
            <a:ext cx="1152720" cy="792000"/>
          </a:xfrm>
          <a:prstGeom prst="ellipse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е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4076640"/>
            <a:ext cx="1728720" cy="1368360"/>
          </a:xfrm>
          <a:prstGeom prst="ellipse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я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Краснояр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1280" y="4005360"/>
            <a:ext cx="1512720" cy="122400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ед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фармацев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6200" y="5445000"/>
            <a:ext cx="1477800" cy="107964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доро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0280"/>
            <a:ext cx="2233440" cy="223236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азеты и журна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естн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спубликанск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такж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рирода Сибири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хотник и рыбо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95008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ультат: 1 пресс-ре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ЗКОЙ ТЕМАТИКИ (!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мещён на 26 интернет-сай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907920"/>
            <a:ext cx="2305080" cy="216072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ай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ОПТ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ор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спублики Алтай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Алтай Трансграничный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елёный патрул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72360" y="1773360"/>
            <a:ext cx="863640" cy="79200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333360"/>
            <a:ext cx="1728720" cy="151128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«Экологическ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 воспитани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724280"/>
            <a:ext cx="1800000" cy="1656000"/>
          </a:xfrm>
          <a:prstGeom prst="ellipse">
            <a:avLst/>
          </a:prstGeom>
          <a:solidFill>
            <a:srgbClr val="c0c0c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рнет-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рождени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для многоде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373720"/>
            <a:ext cx="1511280" cy="1295280"/>
          </a:xfrm>
          <a:prstGeom prst="ellipse">
            <a:avLst/>
          </a:prstGeom>
          <a:solidFill>
            <a:srgbClr val="c0c0c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веточно.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и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т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35640" y="2421000"/>
            <a:ext cx="50472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556000" y="2205000"/>
            <a:ext cx="100800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39640" y="3860640"/>
            <a:ext cx="1152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4076640"/>
            <a:ext cx="57636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852640"/>
            <a:ext cx="1079280" cy="93528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ТР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Гор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16000" y="3284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4653000"/>
            <a:ext cx="1224000" cy="1081080"/>
          </a:xfrm>
          <a:prstGeom prst="ellipse">
            <a:avLst/>
          </a:pr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720" y="4149720"/>
            <a:ext cx="5745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3645000"/>
            <a:ext cx="28728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4076640"/>
            <a:ext cx="21564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32360" y="3716280"/>
            <a:ext cx="1295280" cy="1081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5373720"/>
            <a:ext cx="360360" cy="576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524720" y="1483920"/>
            <a:ext cx="360360" cy="289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12000" y="1916280"/>
            <a:ext cx="432000" cy="712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72000" y="4005360"/>
            <a:ext cx="21564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573360"/>
            <a:ext cx="43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йтинг пресс-релизов за последние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1052640"/>
            <a:ext cx="5183280" cy="1008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На водопаде Корбу начал работу нов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зит-центр Алтайского заповедника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местили 82 интернет-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276640"/>
            <a:ext cx="6696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 Алтайском заповеднике обнаружены новые виды гриб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5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84640"/>
            <a:ext cx="7490160" cy="7189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Алтайский заповедник стал биосферным»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4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292640"/>
            <a:ext cx="7704000" cy="7207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ртует экологический марафон "Энергосбережение"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229360"/>
            <a:ext cx="8064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ьм «Таежный тупик» заня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сто в кинофестивале «Золотой компа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20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-клуб, пресс-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4140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а-клуб «Заповедь без границ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 в 2010 году при Алтайском биосферном заповед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луб входят представители СМИ Республики Алтай и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2010-2011 гг  проведено 4 пресс-тура, один из которых организован и проведён при поддержке Всемирного фонда прир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4103640" cy="5545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105440" cy="27399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Г.Савина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25360"/>
          <a:ext cx="741672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741672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508720" y="1125360"/>
            <a:ext cx="338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08 года - сайт Алтайского заповедника - http://altzapov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работает 2 сайта заповедника: http://altzapoved.ru  и http://hraniteliozer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450864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10 года – создание новых Интернет-ресурсов и использование соцсетей, блогов в размещении своей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765000"/>
          <a:ext cx="8281800" cy="5670720"/>
        </p:xfrm>
        <a:graphic>
          <a:graphicData uri="http://schemas.openxmlformats.org/drawingml/2006/table">
            <a:tbl>
              <a:tblPr/>
              <a:tblGrid>
                <a:gridCol w="3456000"/>
                <a:gridCol w="48258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ства и б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ww.sledmedved.ning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Друзей Алтайского заповедника «След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3"/>
                        </a:rPr>
                        <a:t>www.flickr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4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5"/>
                        </a:rPr>
                        <a:t>photos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6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7"/>
                        </a:rPr>
                        <a:t>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сайт Алтайского запов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8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9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0"/>
                        </a:rPr>
                        <a:t>altzapoved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1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в Livejournal «Заповедь без границ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2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3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4"/>
                        </a:rPr>
                        <a:t>community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5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6"/>
                        </a:rPr>
                        <a:t>yai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«Яйлю – заповедная деревн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7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8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9"/>
                        </a:rPr>
                        <a:t>my.mail.ru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0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1"/>
                        </a:rPr>
                        <a:t>community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2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3"/>
                        </a:rPr>
                        <a:t>altzapoved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4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Друзья Алтайского заповедника – страничка со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facebook.com/pages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траничка Алтайского заповедника на 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youtube.com/user/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Видеоблог на You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vkontakte.ru/album-13416172_99114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альбом в «Vkonrakte.ru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-сообществ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wwf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W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eco-altai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туризм на Алта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gp-russia.livejournal.com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Гринпис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oopt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ООПТ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и эколого-просветительской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775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спечение поддержки идей заповедного дела широкими слоями населения как необходимого условия выполнения заповедниками своих природоохранных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йствие решению региональных эк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формировании экологического сознания и развития экологической культуры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11280" y="5229360"/>
          <a:ext cx="6191280" cy="122220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2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28000" y="6524640"/>
            <a:ext cx="20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А. Гриб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и использования соц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691920"/>
            <a:ext cx="512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facebook.com/home.php?ref=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linkedin.com/profile/view?id=151691822&amp;trk=tab_p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igor-kalmykov.livejournal.com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twitter.com/#!/kalmyk196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vkontakte.ru/id1445102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</a:t>
            </a:r>
            <a:r>
              <a:rPr b="1" lang="en-US" sz="1500" spc="-1" strike="noStrike" u="sng">
                <a:solidFill>
                  <a:srgbClr val="333399"/>
                </a:solidFill>
                <a:uFillTx/>
                <a:latin typeface="Arial"/>
              </a:rPr>
              <a:t>my.mail.ru|mail|kalmyk1961</a:t>
            </a: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59280" y="1413000"/>
            <a:ext cx="3960720" cy="29718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183280" cy="3852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56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89440" cy="25938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11640" cy="42480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89440" cy="283212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500720" y="5300640"/>
            <a:ext cx="431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фото-видео-экспед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сбора материалов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6308640"/>
            <a:ext cx="45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ы фото: И.Долгов, В.Кантор, П.Фил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68680" cy="5400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716360" y="5445000"/>
            <a:ext cx="4249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 видеофиль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видео-ро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649680" cy="4537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268360" y="5950080"/>
            <a:ext cx="5689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ортале «Вся Россия» - 7 фильмов и 4 сюжета Алтайского заповедни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://www.allrussiatv.ru/altai-republic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515772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на обложке -С.Ивой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947680" cy="3743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368360" cy="110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64000" y="4941360"/>
            <a:ext cx="338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10 году записана аудиокнига «Встреча ветров» (писатель -А.Малыш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4978440" cy="504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116000" y="602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аудио-диск (сборник пе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80536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на обложке –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2602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95560" cy="55166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 rot="453600">
            <a:off x="6084360" y="2349360"/>
            <a:ext cx="2741760" cy="38815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2489040" cy="35258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240000" cy="750960"/>
          </a:xfrm>
          <a:prstGeom prst="rect">
            <a:avLst/>
          </a:prstGeom>
          <a:ln w="22320">
            <a:solidFill>
              <a:srgbClr val="0066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rot="1399200">
            <a:off x="2843280" y="2707920"/>
            <a:ext cx="3060720" cy="248760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3213000"/>
            <a:ext cx="2316240" cy="3189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2021040" cy="2868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403280" y="765000"/>
            <a:ext cx="6248520" cy="1419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2592360" cy="190836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2411280" y="5589720"/>
            <a:ext cx="3816360" cy="882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712800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503440" cy="3125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4734000" cy="31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 rot="937200">
            <a:off x="6300360" y="3860280"/>
            <a:ext cx="1884600" cy="2667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895480" cy="28954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1190520" cy="2971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900000" y="4149720"/>
            <a:ext cx="2022480" cy="22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Сав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19280" y="907920"/>
            <a:ext cx="4825800" cy="471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пункты Алтайского запов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800000" cy="13478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240000" cy="25052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2016000" cy="1511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395280" y="2276640"/>
            <a:ext cx="15829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тыбаш, 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6165720"/>
            <a:ext cx="9349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ел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734080"/>
            <a:ext cx="143964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аган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1484280"/>
            <a:ext cx="144720" cy="216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1413000"/>
            <a:ext cx="93672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842920" y="2060280"/>
            <a:ext cx="259236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059280" y="2708280"/>
            <a:ext cx="2233440" cy="144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84360" y="4653000"/>
            <a:ext cx="792360" cy="216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3645000"/>
            <a:ext cx="1440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бу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508720" y="765000"/>
            <a:ext cx="2835360" cy="2872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276720" y="692280"/>
            <a:ext cx="1728720" cy="1295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3492360" y="1989000"/>
            <a:ext cx="1295640" cy="21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йлю, 200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6381720"/>
            <a:ext cx="21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Е.Шич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6453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468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пективы создания еди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евого экотура- «трансформ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rot="6353400">
            <a:off x="193680" y="1758960"/>
            <a:ext cx="291168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50920" y="1341360"/>
            <a:ext cx="2879640" cy="3456000"/>
          </a:xfrm>
          <a:prstGeom prst="flowChartConnector">
            <a:avLst/>
          </a:prstGeom>
          <a:noFill/>
          <a:ln w="63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89000"/>
            <a:ext cx="2303280" cy="936360"/>
          </a:xfrm>
          <a:prstGeom prst="rect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ПОВЕ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ГРАНИ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1341360"/>
            <a:ext cx="1214280" cy="432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2060640"/>
            <a:ext cx="1214280" cy="43164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416600">
            <a:off x="2987280" y="3068640"/>
            <a:ext cx="1152720" cy="43164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981000"/>
            <a:ext cx="1944360" cy="720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Яйлинская терраса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Гора Чичелга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2133720"/>
            <a:ext cx="194472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Кокш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4149720"/>
            <a:ext cx="201780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Белинская террас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3800">
            <a:off x="2842920" y="3789360"/>
            <a:ext cx="1152360" cy="431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3800">
            <a:off x="2484360" y="4508640"/>
            <a:ext cx="1228680" cy="488880"/>
          </a:xfrm>
          <a:custGeom>
            <a:avLst/>
            <a:gdLst>
              <a:gd name="textAreaLeft" fmla="*/ 214920 w 1228680"/>
              <a:gd name="textAreaRight" fmla="*/ 891000 w 1228680"/>
              <a:gd name="textAreaTop" fmla="*/ 65520 h 488880"/>
              <a:gd name="textAreaBottom" fmla="*/ 42336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5084640"/>
            <a:ext cx="165744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Уча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3141720"/>
            <a:ext cx="194472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ы Баско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012000" y="2997360"/>
            <a:ext cx="1366560" cy="102852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028000" y="357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8172360" y="3357720"/>
            <a:ext cx="360360" cy="30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79640" y="5950080"/>
            <a:ext cx="2665440" cy="7189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, дополнитель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автомоби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азырыкские кург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380360" y="3500280"/>
            <a:ext cx="447480" cy="574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7380360" y="3068640"/>
            <a:ext cx="585720" cy="392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 rot="1152600">
            <a:off x="7884720" y="3212640"/>
            <a:ext cx="29700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698400">
            <a:off x="2050560" y="4652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64000" y="3789360"/>
            <a:ext cx="4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5364000" y="5373720"/>
            <a:ext cx="1800360" cy="12700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7236000" y="5589720"/>
            <a:ext cx="448920" cy="576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8317080" y="551664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>
            <a:lum contrast="12000"/>
          </a:blip>
          <a:stretch/>
        </p:blipFill>
        <p:spPr>
          <a:xfrm>
            <a:off x="324000" y="5300640"/>
            <a:ext cx="1584000" cy="1063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5508720" y="4724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3">
            <a:lum contrast="12000"/>
          </a:blip>
          <a:stretch/>
        </p:blipFill>
        <p:spPr>
          <a:xfrm>
            <a:off x="5867280" y="1989000"/>
            <a:ext cx="1441440" cy="955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4716360" y="5734080"/>
            <a:ext cx="574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2637000"/>
            <a:ext cx="4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1700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4">
            <a:lum contrast="12000"/>
          </a:blip>
          <a:stretch/>
        </p:blipFill>
        <p:spPr>
          <a:xfrm>
            <a:off x="5003640" y="836640"/>
            <a:ext cx="1729080" cy="11494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5">
            <a:lum contrast="12000"/>
          </a:blip>
          <a:stretch/>
        </p:blipFill>
        <p:spPr>
          <a:xfrm>
            <a:off x="6012000" y="4076640"/>
            <a:ext cx="1439640" cy="107784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6"/>
          <a:stretch/>
        </p:blipFill>
        <p:spPr>
          <a:xfrm>
            <a:off x="7667640" y="580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7"/>
          <a:stretch/>
        </p:blipFill>
        <p:spPr>
          <a:xfrm>
            <a:off x="7740720" y="5445000"/>
            <a:ext cx="504720" cy="427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8"/>
          <a:stretch/>
        </p:blipFill>
        <p:spPr>
          <a:xfrm>
            <a:off x="7308720" y="2349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9"/>
          <a:stretch/>
        </p:blipFill>
        <p:spPr>
          <a:xfrm>
            <a:off x="7812000" y="2421000"/>
            <a:ext cx="36036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0"/>
          <a:stretch/>
        </p:blipFill>
        <p:spPr>
          <a:xfrm>
            <a:off x="8172360" y="234936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1"/>
          <a:stretch/>
        </p:blipFill>
        <p:spPr>
          <a:xfrm rot="1152600">
            <a:off x="8101080" y="213336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2"/>
          <a:stretch/>
        </p:blipFill>
        <p:spPr>
          <a:xfrm>
            <a:off x="6804000" y="1341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3"/>
          <a:stretch/>
        </p:blipFill>
        <p:spPr>
          <a:xfrm>
            <a:off x="6804000" y="98100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4"/>
          <a:stretch/>
        </p:blipFill>
        <p:spPr>
          <a:xfrm>
            <a:off x="723600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5"/>
          <a:stretch/>
        </p:blipFill>
        <p:spPr>
          <a:xfrm rot="1152600">
            <a:off x="7667280" y="907560"/>
            <a:ext cx="241200" cy="43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6"/>
          <a:stretch/>
        </p:blipFill>
        <p:spPr>
          <a:xfrm>
            <a:off x="7451640" y="4508640"/>
            <a:ext cx="447840" cy="574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7"/>
          <a:stretch/>
        </p:blipFill>
        <p:spPr>
          <a:xfrm>
            <a:off x="7885080" y="4508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8"/>
          <a:stretch/>
        </p:blipFill>
        <p:spPr>
          <a:xfrm>
            <a:off x="8244000" y="479736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9"/>
          <a:stretch/>
        </p:blipFill>
        <p:spPr>
          <a:xfrm>
            <a:off x="8244000" y="436572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0"/>
          <a:stretch/>
        </p:blipFill>
        <p:spPr>
          <a:xfrm rot="1152600">
            <a:off x="8675280" y="4365360"/>
            <a:ext cx="162000" cy="288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1"/>
          <a:stretch/>
        </p:blipFill>
        <p:spPr>
          <a:xfrm>
            <a:off x="7308720" y="981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2"/>
          <a:stretch/>
        </p:blipFill>
        <p:spPr>
          <a:xfrm>
            <a:off x="8532720" y="3213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3"/>
          <a:srcRect l="1332" t="0" r="38660" b="23190"/>
          <a:stretch/>
        </p:blipFill>
        <p:spPr>
          <a:xfrm>
            <a:off x="8532720" y="3573360"/>
            <a:ext cx="358920" cy="308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4"/>
          <a:srcRect l="1332" t="0" r="38660" b="23190"/>
          <a:stretch/>
        </p:blipFill>
        <p:spPr>
          <a:xfrm>
            <a:off x="8604360" y="4724280"/>
            <a:ext cx="358560" cy="308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11280" y="2421000"/>
            <a:ext cx="1081080" cy="172872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льцев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ту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зволи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сети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азу вс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иродные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торико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ультур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414000">
            <a:off x="1332000" y="184428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191628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625600">
            <a:off x="2196000" y="22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244000">
            <a:off x="2159640" y="267264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728000">
            <a:off x="2159640" y="360900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4591800">
            <a:off x="2088000" y="31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169000">
            <a:off x="2232360" y="4111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08000" y="2491920"/>
            <a:ext cx="0" cy="201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55280" y="1844280"/>
            <a:ext cx="1150920" cy="57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2123600">
            <a:off x="1763280" y="450828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тители Алтайского заповедника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центров/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292720" y="907920"/>
          <a:ext cx="4211640" cy="36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907920"/>
                    <a:ext cx="421164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1125360"/>
          <a:ext cx="5224320" cy="350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22432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42920" y="2708280"/>
          <a:ext cx="48960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2708280"/>
                    <a:ext cx="48960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направления эколого-просветительско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и 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9678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о средствами массовой информации (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аудио-, кино- и видео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ейное дело и организация информационных центров для посет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о школь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 педагогами образовательных учреждений и органами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праздники и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, информационное и техническое сопровождение Интернет-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института волонтёров для работы в заповед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5640" y="5157720"/>
          <a:ext cx="6191280" cy="136692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6920" y="126792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цкая школ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о-юношеского эко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25509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419640" cy="22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graphicFrame>
        <p:nvGraphicFramePr>
          <p:cNvPr id="340" name=""/>
          <p:cNvGraphicFramePr/>
          <p:nvPr/>
        </p:nvGraphicFramePr>
        <p:xfrm>
          <a:off x="3708360" y="2276640"/>
          <a:ext cx="5040360" cy="331272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</a:tblGrid>
              <a:tr h="110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Путь Воин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патриотическое и граждан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Алые парус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заповедный яхт-кл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Лесные Робинзоны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оздоровление и реабили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Школа юного экскурсо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Здоров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Алтын-Кёля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Над Озер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исследо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492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Берендеи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эколого-волонтёрская 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31680">
                      <a:solidFill>
                        <a:srgbClr val="99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0" y="4627440"/>
            <a:ext cx="3456000" cy="22305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35640" y="0"/>
            <a:ext cx="1544760" cy="1628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raniteliozer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Е.Весел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1" descr="флаг1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858000"/>
          </a:xfrm>
          <a:prstGeom prst="rect">
            <a:avLst/>
          </a:prstGeom>
          <a:ln w="34920">
            <a:solidFill>
              <a:srgbClr val="bbe0e3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55640" y="475920"/>
            <a:ext cx="482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979640" y="5270400"/>
            <a:ext cx="6875280" cy="1490040"/>
          </a:xfrm>
          <a:prstGeom prst="rect">
            <a:avLst/>
          </a:prstGeom>
          <a:solidFill>
            <a:srgbClr val="ffffff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Наш адрес: 649000  Республика Алта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г. Горно-Алтайск,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ер. Набережный- 1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/я 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лтайский государственный природный биосферный заповедни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(388-22) 2-14-19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E-mail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agpzmain@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3"/>
              </a:rPr>
              <a:t>mail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4"/>
              </a:rPr>
              <a:t>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5"/>
              </a:rPr>
              <a:t>www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6"/>
              </a:rPr>
              <a:t>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7"/>
              </a:rPr>
              <a:t>altzapovednik.ru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8"/>
              </a:rPr>
              <a:t>altzapoved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9"/>
              </a:rPr>
              <a:t>sledmedved.ning.com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1557360"/>
          <a:ext cx="8362800" cy="5025960"/>
        </p:xfrm>
        <a:graphic>
          <a:graphicData uri="http://schemas.openxmlformats.org/drawingml/2006/table">
            <a:tbl>
              <a:tblPr/>
              <a:tblGrid>
                <a:gridCol w="2698920"/>
                <a:gridCol w="241200"/>
                <a:gridCol w="2576520"/>
                <a:gridCol w="241200"/>
                <a:gridCol w="2604960"/>
              </a:tblGrid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ое на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ители заповедных посёлков, кордонов, прилегающих  к ООПТ поселени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публ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т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едом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у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Собр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 Курулта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ический бизне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урбазы, частные извозчики на Телецком озере, владельцы сельских «зелёных» дом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х районов и 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Н Алтая -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х малочисленны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ов Алт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объ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орное Партнёрство)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ы Друзей Алтайского заповед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инфор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го уро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охранительные и природоохранные структу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и Алтай (Прокуратура, МВД, Рыбнадзор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419640" y="1125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с общественность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и с общественностью (PR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2852640"/>
          <a:ext cx="7416720" cy="36432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6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11 г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деятельность Общественных Советов (пос. Яйлю, Беле, Совет Телецкого озер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соглашений и договоров о сотрудничестве (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еминаров, тренингов, мастер-классов, направленных на вовлечение населения в альтернативную браконьерству деятельность 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ование, разработка и реализация совместных проектов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обустройство рабочих мест в сфере экологического туризма (водопад Корбу – 20 рабочих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«зелёного» туризма в заповедных посёлках (50-60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работа клубов Друзей Алтайского заповедника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411280" y="1125360"/>
          <a:ext cx="3961080" cy="79092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и взаимо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елевыми групп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140360" y="1916280"/>
            <a:ext cx="502920" cy="934920"/>
          </a:xfrm>
          <a:custGeom>
            <a:avLst/>
            <a:gdLst>
              <a:gd name="textAreaLeft" fmla="*/ 0 w 502920"/>
              <a:gd name="textAreaRight" fmla="*/ 503280 w 50292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c0c0c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на территории заповедника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полагается 2 посёлка. С 2007 года здесь созданы Общественные Сов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600200"/>
            <a:ext cx="4635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5809" t="0" r="0" b="0"/>
          <a:stretch/>
        </p:blipFill>
        <p:spPr>
          <a:xfrm>
            <a:off x="5003640" y="836640"/>
            <a:ext cx="3730680" cy="27385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727440" cy="25718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1258920" y="2060640"/>
            <a:ext cx="3673440" cy="288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402920" y="3357720"/>
            <a:ext cx="3529080" cy="1295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3213000"/>
            <a:ext cx="8524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602136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4510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управление на местн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ственные Со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95008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оне сотрудничеств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ые по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очак, Артыбаш, Иогач, Улаган, Балыкча, Коо, Язу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388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ыб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743200"/>
            <a:ext cx="76212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о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0060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а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34936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21300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500280"/>
            <a:ext cx="936720" cy="2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ык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445000"/>
            <a:ext cx="7210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076640"/>
            <a:ext cx="57456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А.Лотов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776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р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2666880" cy="16765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Алтай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государственны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ро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запове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328464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Телецкое об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ох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и рыболо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20040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ий 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Артыбаш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341360"/>
            <a:ext cx="2728800" cy="1629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о соц-э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телец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029200"/>
            <a:ext cx="2438280" cy="12193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Некоммер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«Ори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600200"/>
            <a:ext cx="2667240" cy="1143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Улага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95288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юз общ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урочак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«Б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494172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Физические л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жители сё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Иогач и Артыб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752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т Телецкого оз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907920"/>
            <a:ext cx="23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 в 200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взаимодействия с местным население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ритория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3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методическая поддер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а по развитию экотуризма, Улаганский район (строительство и оформление визит-центра, укрепление туристической инфраструктуры местных жителей-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фере туриз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рантовских заявок жителей пос. Яйлю (конкурс микрокредитова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743280" cy="28080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427640" y="3213000"/>
            <a:ext cx="4032000" cy="297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4360" y="5445000"/>
            <a:ext cx="23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ы реализов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ОН/ГЭФ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6237360"/>
            <a:ext cx="403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ация Международного Центра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ных территорий (Непал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ет визит-центр в Улагане, 2011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285264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И.Калмы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пад Корбу – пример сотрудниче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о-туристический объект в заповед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1197000"/>
            <a:ext cx="4343400" cy="3257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1413000"/>
            <a:ext cx="4114800" cy="30859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допад ежегодно посещает от 25-ти до 32-х тысяч туристов. Организация посещения и сервиса на территории водопада должна отвечать всем природоохранным требованиям. Была необходима соответствующая инфраструктура смотровой площадки (2007-2008 г). В рамках проекта ПРООН/ГЭФ (НП «Орион») разработан проект-эскиз площадки (2007 г), создана инфраструктура в 2008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50864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чее совещание на объек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58136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отровая площадка «Водопад Корб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33:23Z</dcterms:created>
  <dc:creator>SamLab.ws</dc:creator>
  <dc:description/>
  <dc:language>en-US</dc:language>
  <cp:lastModifiedBy>SamLab.ws</cp:lastModifiedBy>
  <dcterms:modified xsi:type="dcterms:W3CDTF">2011-11-11T09:15:06Z</dcterms:modified>
  <cp:revision>1644</cp:revision>
  <dc:subject/>
  <dc:title>Слайд 1</dc:title>
</cp:coreProperties>
</file>